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78A5-6C85-41C1-AA3D-BCBECCDB14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M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i utility included in the OEM Support Tools (part of the Windows debugging  tools and available for download at support.microsoft.com/support/kb/articles/Q253/0/66.asp) allows you to dump the contents of an NTFS volume’s MFT as well as to translate a volume cluster number or physical-disk sector number (on non-RAID volumes  only) to the file that contains it, if it’s part of a file. The first 16 entries of the MFT are  reserved for metadata files, but optional metadata files (which are present only if a volume uses an associated feature) fall outside this area: \$Extend\$Quota,  \$Extend\$ObjId, \$Extend\$UsnJrnl, and \$Extend\$Reparse.</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nfi G:\  </a:t>
            </a:r>
            <a:br>
              <a:rPr sz="1000"/>
            </a:br>
            <a:r>
              <a:rPr b="0" lang="en-US" sz="1000" spc="-1" strike="noStrike">
                <a:solidFill>
                  <a:srgbClr val="000000"/>
                </a:solidFill>
                <a:latin typeface="Courier New"/>
              </a:rPr>
              <a:t>NTFS File Sector Information Utility. </a:t>
            </a:r>
            <a:br>
              <a:rPr sz="1000"/>
            </a:br>
            <a:r>
              <a:rPr b="0" lang="en-US" sz="1000" spc="-1" strike="noStrike">
                <a:solidFill>
                  <a:srgbClr val="000000"/>
                </a:solidFill>
                <a:latin typeface="Courier New"/>
              </a:rPr>
              <a:t>Copyright(C) Microsoft Corporation 1999.All rightsreserved.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0  Master File Table ($Mft)</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32-52447 (0x20-0xccdf)</a:t>
            </a:r>
            <a:br>
              <a:rPr sz="1000"/>
            </a:br>
            <a:r>
              <a:rPr b="0" lang="en-US" sz="1000" spc="-1" strike="noStrike">
                <a:solidFill>
                  <a:srgbClr val="000000"/>
                </a:solidFill>
                <a:latin typeface="Courier New"/>
              </a:rPr>
              <a:t>  $BITMAP (nonresid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16-23 (0x10-0x17)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1  MasterFile Table Mirror ($MftMirr)</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2048728-2048735 (0x1f42d8-0x1f42df)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2  LogFile ($LogFile)</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2048736-2073343 (0x1f42e0-0x1fa2f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NTF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Windows 2000, you can use the NTFSInfo tool from www.sysinternals.com to view  information about an NTFS volume, including the placement and size of the MFT and  MFT zone; and in Windows XP and Windows Server 2003, you can use the built-in  Fsutil.exe command-line program: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Windows\System32&gt;fsutil fsinfo ntfsinfoc: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TFS Volume Serial Number : </a:t>
            </a:r>
            <a:r>
              <a:rPr b="0" lang="en-US" sz="1000" spc="-1" strike="noStrike">
                <a:solidFill>
                  <a:srgbClr val="000000"/>
                </a:solidFill>
                <a:latin typeface="Courier New"/>
              </a:rPr>
              <a:t>	</a:t>
            </a:r>
            <a:r>
              <a:rPr b="0" lang="en-US" sz="1000" spc="-1" strike="noStrike">
                <a:solidFill>
                  <a:srgbClr val="000000"/>
                </a:solidFill>
                <a:latin typeface="Courier New"/>
              </a:rPr>
              <a:t>0xe82828e72828b68a  </a:t>
            </a:r>
            <a:br>
              <a:rPr sz="1000"/>
            </a:br>
            <a:r>
              <a:rPr b="0" lang="en-US" sz="1000" spc="-1" strike="noStrike">
                <a:solidFill>
                  <a:srgbClr val="000000"/>
                </a:solidFill>
                <a:latin typeface="Courier New"/>
              </a:rPr>
              <a:t>Version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3.1  </a:t>
            </a:r>
            <a:br>
              <a:rPr sz="1000"/>
            </a:br>
            <a:r>
              <a:rPr b="0" lang="en-US" sz="1000" spc="-1" strike="noStrike">
                <a:solidFill>
                  <a:srgbClr val="000000"/>
                </a:solidFill>
                <a:latin typeface="Courier New"/>
              </a:rPr>
              <a:t>NumberSectors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1e461b7  </a:t>
            </a:r>
            <a:br>
              <a:rPr sz="1000"/>
            </a:br>
            <a:r>
              <a:rPr b="0" lang="en-US" sz="1000" spc="-1" strike="noStrike">
                <a:solidFill>
                  <a:srgbClr val="000000"/>
                </a:solidFill>
                <a:latin typeface="Courier New"/>
              </a:rPr>
              <a:t>TotalClusters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c8c36  </a:t>
            </a:r>
            <a:br>
              <a:rPr sz="1000"/>
            </a:br>
            <a:r>
              <a:rPr b="0" lang="en-US" sz="1000" spc="-1" strike="noStrike">
                <a:solidFill>
                  <a:srgbClr val="000000"/>
                </a:solidFill>
                <a:latin typeface="Courier New"/>
              </a:rPr>
              <a:t>Free Clusters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164c8  </a:t>
            </a:r>
            <a:br>
              <a:rPr sz="1000"/>
            </a:br>
            <a:r>
              <a:rPr b="0" lang="en-US" sz="1000" spc="-1" strike="noStrike">
                <a:solidFill>
                  <a:srgbClr val="000000"/>
                </a:solidFill>
                <a:latin typeface="Courier New"/>
              </a:rPr>
              <a:t>TotalReserved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001b0  </a:t>
            </a:r>
            <a:br>
              <a:rPr sz="1000"/>
            </a:br>
            <a:r>
              <a:rPr b="0" lang="en-US" sz="1000" spc="-1" strike="noStrike">
                <a:solidFill>
                  <a:srgbClr val="000000"/>
                </a:solidFill>
                <a:latin typeface="Courier New"/>
              </a:rPr>
              <a:t>BytesPerSector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12  </a:t>
            </a:r>
            <a:br>
              <a:rPr sz="1000"/>
            </a:br>
            <a:r>
              <a:rPr b="0" lang="en-US" sz="1000" spc="-1" strike="noStrike">
                <a:solidFill>
                  <a:srgbClr val="000000"/>
                </a:solidFill>
                <a:latin typeface="Courier New"/>
              </a:rPr>
              <a:t>BytesPerCluster: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4096  </a:t>
            </a:r>
            <a:br>
              <a:rPr sz="1000"/>
            </a:br>
            <a:r>
              <a:rPr b="0" lang="en-US" sz="1000" spc="-1" strike="noStrike">
                <a:solidFill>
                  <a:srgbClr val="000000"/>
                </a:solidFill>
                <a:latin typeface="Courier New"/>
              </a:rPr>
              <a:t>BytesPerFileRecordSegment :</a:t>
            </a:r>
            <a:r>
              <a:rPr b="0" lang="en-US" sz="1000" spc="-1" strike="noStrike">
                <a:solidFill>
                  <a:srgbClr val="000000"/>
                </a:solidFill>
                <a:latin typeface="Courier New"/>
              </a:rPr>
              <a:t>	</a:t>
            </a:r>
            <a:r>
              <a:rPr b="0" lang="en-US" sz="1000" spc="-1" strike="noStrike">
                <a:solidFill>
                  <a:srgbClr val="000000"/>
                </a:solidFill>
                <a:latin typeface="Courier New"/>
              </a:rPr>
              <a:t>1024  </a:t>
            </a:r>
            <a:br>
              <a:rPr sz="1000"/>
            </a:br>
            <a:r>
              <a:rPr b="0" lang="en-US" sz="1000" spc="-1" strike="noStrike">
                <a:solidFill>
                  <a:srgbClr val="000000"/>
                </a:solidFill>
                <a:latin typeface="Courier New"/>
              </a:rPr>
              <a:t>Clusters PerFileRecordSegment: </a:t>
            </a:r>
            <a:r>
              <a:rPr b="0" lang="en-US" sz="1000" spc="-1" strike="noStrike">
                <a:solidFill>
                  <a:srgbClr val="000000"/>
                </a:solidFill>
                <a:latin typeface="Courier New"/>
              </a:rPr>
              <a:t>	</a:t>
            </a:r>
            <a:r>
              <a:rPr b="0" lang="en-US" sz="1000" spc="-1" strike="noStrike">
                <a:solidFill>
                  <a:srgbClr val="000000"/>
                </a:solidFill>
                <a:latin typeface="Courier New"/>
              </a:rPr>
              <a:t>0  </a:t>
            </a:r>
            <a:br>
              <a:rPr sz="1000"/>
            </a:br>
            <a:r>
              <a:rPr b="0" lang="en-US" sz="1000" spc="-1" strike="noStrike">
                <a:solidFill>
                  <a:srgbClr val="000000"/>
                </a:solidFill>
                <a:latin typeface="Courier New"/>
              </a:rPr>
              <a:t>MftValidData Length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6413800  </a:t>
            </a:r>
            <a:br>
              <a:rPr sz="1000"/>
            </a:br>
            <a:r>
              <a:rPr b="0" lang="en-US" sz="1000" spc="-1" strike="noStrike">
                <a:solidFill>
                  <a:srgbClr val="000000"/>
                </a:solidFill>
                <a:latin typeface="Courier New"/>
              </a:rPr>
              <a:t>MftStartLcn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c5294  </a:t>
            </a:r>
            <a:br>
              <a:rPr sz="1000"/>
            </a:br>
            <a:r>
              <a:rPr b="0" lang="en-US" sz="1000" spc="-1" strike="noStrike">
                <a:solidFill>
                  <a:srgbClr val="000000"/>
                </a:solidFill>
                <a:latin typeface="Courier New"/>
              </a:rPr>
              <a:t>Mft2 StartLcn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2f427  </a:t>
            </a:r>
            <a:br>
              <a:rPr sz="1000"/>
            </a:br>
            <a:r>
              <a:rPr b="0" lang="en-US" sz="1000" spc="-1" strike="noStrike">
                <a:solidFill>
                  <a:srgbClr val="000000"/>
                </a:solidFill>
                <a:latin typeface="Courier New"/>
              </a:rPr>
              <a:t>MftZone Star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bf7e0  </a:t>
            </a:r>
            <a:br>
              <a:rPr sz="1000"/>
            </a:br>
            <a:r>
              <a:rPr b="0" lang="en-US" sz="1000" spc="-1" strike="noStrike">
                <a:solidFill>
                  <a:srgbClr val="000000"/>
                </a:solidFill>
                <a:latin typeface="Courier New"/>
              </a:rPr>
              <a:t>MftZone End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bf8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457200"/>
            <a:ext cx="4572000" cy="3429000"/>
          </a:xfrm>
          <a:prstGeom prst="rect">
            <a:avLst/>
          </a:prstGeom>
          <a:ln w="0">
            <a:noFill/>
          </a:ln>
        </p:spPr>
      </p:sp>
      <p:sp>
        <p:nvSpPr>
          <p:cNvPr id="10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Lab objective:s investigating the the file system mechanisms and concepts implemented inside the Windows operating system. Students are expected to carry out Labs in addition to studying the learning materials in Unit OS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8: File System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19320" y="457200"/>
            <a:ext cx="4572000" cy="3429000"/>
          </a:xfrm>
          <a:prstGeom prst="rect">
            <a:avLst/>
          </a:prstGeom>
          <a:ln w="0">
            <a:noFill/>
          </a:ln>
        </p:spPr>
      </p:sp>
      <p:sp>
        <p:nvSpPr>
          <p:cNvPr id="11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ist of Registered 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O manager loads a device driver into memory, it typically names the driver  object it creates to represent the driver so that it’s placed in the \Drivers object manager  directory. The driver objects for any driver the I/O manager loads that have a Type  attribute value of SERVICE_FILE_SYSTEM_DRIVER (2) are placed in the \FileSystem  directory by the I/O manager. Thus, using a tool such as Winobj (from www.sysinternals.com), you can see the file systems that have registered on a system, as shown in the  following screen shot. (Note that some file system drivers also place device objects in  the \FileSystem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2" name="" descr=""/>
          <p:cNvPicPr/>
          <p:nvPr/>
        </p:nvPicPr>
        <p:blipFill>
          <a:blip r:embed="rId1"/>
          <a:stretch/>
        </p:blipFill>
        <p:spPr>
          <a:xfrm>
            <a:off x="1066680" y="5867280"/>
            <a:ext cx="4521240" cy="289584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19320" y="457200"/>
            <a:ext cx="4572000" cy="3429000"/>
          </a:xfrm>
          <a:prstGeom prst="rect">
            <a:avLst/>
          </a:prstGeom>
          <a:ln w="0">
            <a:noFill/>
          </a:ln>
        </p:spPr>
      </p:sp>
      <p:sp>
        <p:nvSpPr>
          <p:cNvPr id="11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System Restore Filter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nitor changes to files and directories, the System Restore filter driver must attach  filter device objects to the FAT and NTFS device objects representing volumes. In addition, it attaches a filter device object to the device objects representing file system drivers  so that it can become aware of new volumes as they are mounted by the file system and  then subsequently attach filter device objects to them. You can see System Restore’s  device objects with a kernel debugg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 !drvobj\filesystem\sr  </a:t>
            </a:r>
            <a:br>
              <a:rPr sz="1000"/>
            </a:br>
            <a:r>
              <a:rPr b="0" lang="en-US" sz="1000" spc="-1" strike="noStrike">
                <a:solidFill>
                  <a:srgbClr val="000000"/>
                </a:solidFill>
                <a:latin typeface="Courier New"/>
              </a:rPr>
              <a:t>Driverobject(81543850) is for:</a:t>
            </a:r>
            <a:br>
              <a:rPr sz="1000"/>
            </a:br>
            <a:r>
              <a:rPr b="0" lang="en-US" sz="1000" spc="-1" strike="noStrike">
                <a:solidFill>
                  <a:srgbClr val="000000"/>
                </a:solidFill>
                <a:latin typeface="Courier New"/>
              </a:rPr>
              <a:t>  \FileSystem\sr  </a:t>
            </a:r>
            <a:br>
              <a:rPr sz="1000"/>
            </a:br>
            <a:r>
              <a:rPr b="0" lang="en-US" sz="1000" spc="-1" strike="noStrike">
                <a:solidFill>
                  <a:srgbClr val="000000"/>
                </a:solidFill>
                <a:latin typeface="Courier New"/>
              </a:rPr>
              <a:t>DriverExtensionList: (id ,addr)   </a:t>
            </a:r>
            <a:br>
              <a:rPr sz="1000"/>
            </a:br>
            <a:r>
              <a:rPr b="0" lang="en-US" sz="1000" spc="-1" strike="noStrike">
                <a:solidFill>
                  <a:srgbClr val="000000"/>
                </a:solidFill>
                <a:latin typeface="Courier New"/>
              </a:rPr>
              <a:t>DeviceObjectlist: </a:t>
            </a:r>
            <a:br>
              <a:rPr sz="1000"/>
            </a:br>
            <a:r>
              <a:rPr b="0" lang="en-US" sz="1000" spc="-1" strike="noStrike">
                <a:solidFill>
                  <a:srgbClr val="000000"/>
                </a:solidFill>
                <a:latin typeface="Courier New"/>
              </a:rPr>
              <a:t> 814ee370 81542dd0 81543728</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ample output, the System Restore driver has three device objects. The first and second objects are attached to NTFS file system device objects. The last one in  the list is named SystemRestore, so it serves as the interface to which the user-mode components of System Restore direct commands. Let us further examine the first device ob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814ee370  </a:t>
            </a:r>
            <a:br>
              <a:rPr sz="1000"/>
            </a:br>
            <a:r>
              <a:rPr b="0" lang="en-US" sz="1000" spc="-1" strike="noStrike">
                <a:solidFill>
                  <a:srgbClr val="000000"/>
                </a:solidFill>
                <a:latin typeface="Courier New"/>
              </a:rPr>
              <a:t>Device object (814ee370) is for:</a:t>
            </a:r>
            <a:br>
              <a:rPr sz="1000"/>
            </a:br>
            <a:r>
              <a:rPr b="0" lang="en-US" sz="1000" spc="-1" strike="noStrike">
                <a:solidFill>
                  <a:srgbClr val="000000"/>
                </a:solidFill>
                <a:latin typeface="Courier New"/>
              </a:rPr>
              <a:t>  \FileSystem\sr DriverObject 81543850  </a:t>
            </a:r>
            <a:br>
              <a:rPr sz="1000"/>
            </a:br>
            <a:r>
              <a:rPr b="0" lang="en-US" sz="1000" spc="-1" strike="noStrike">
                <a:solidFill>
                  <a:srgbClr val="000000"/>
                </a:solidFill>
                <a:latin typeface="Courier New"/>
              </a:rPr>
              <a:t>Current Irp 00000000 RefCount 0 Type 00000008 Flags 00000000  </a:t>
            </a:r>
            <a:br>
              <a:rPr sz="1000"/>
            </a:br>
            <a:r>
              <a:rPr b="0" lang="en-US" sz="1000" spc="-1" strike="noStrike">
                <a:solidFill>
                  <a:srgbClr val="000000"/>
                </a:solidFill>
                <a:latin typeface="Courier New"/>
              </a:rPr>
              <a:t>DevExt 814ee428 DevObjExt 814ee570  </a:t>
            </a:r>
            <a:br>
              <a:rPr sz="1000"/>
            </a:br>
            <a:r>
              <a:rPr b="0" lang="en-US" sz="1000" spc="-1" strike="noStrike">
                <a:solidFill>
                  <a:srgbClr val="000000"/>
                </a:solidFill>
                <a:latin typeface="Courier New"/>
              </a:rPr>
              <a:t>ExtensionFlags (0x80000000) DOE_DESIGNATED_FDO  </a:t>
            </a:r>
            <a:br>
              <a:rPr sz="1000"/>
            </a:br>
            <a:r>
              <a:rPr b="0" lang="en-US" sz="1000" spc="-1" strike="noStrike">
                <a:solidFill>
                  <a:srgbClr val="000000"/>
                </a:solidFill>
                <a:latin typeface="Courier New"/>
              </a:rPr>
              <a:t>AttachedTo (Lower) 81532020 \FileSystem\Ntfs  </a:t>
            </a:r>
            <a:br>
              <a:rPr sz="1000"/>
            </a:br>
            <a:r>
              <a:rPr b="0" lang="en-US" sz="1000" spc="-1" strike="noStrike">
                <a:solidFill>
                  <a:srgbClr val="000000"/>
                </a:solidFill>
                <a:latin typeface="Courier New"/>
              </a:rPr>
              <a:t>Device queue is not bus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19320" y="457200"/>
            <a:ext cx="4572000" cy="3429000"/>
          </a:xfrm>
          <a:prstGeom prst="rect">
            <a:avLst/>
          </a:prstGeom>
          <a:ln w="0">
            <a:noFill/>
          </a:ln>
        </p:spPr>
      </p:sp>
      <p:sp>
        <p:nvSpPr>
          <p:cNvPr id="11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File System Activity on an Id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file system drivers implement support for file change notification, which enables  applications to request notification of file system changes without polling for them. The  Windows functions for doing so include ReadDirectoryChangesW() and the FindFirstChangeNotification(), FindNextChangeNofification()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Filemon on a system that’s idle, you should therefore not see the repeated accesses to files or directories  because that activity unnecessarily negatively affects a system’s overall performance. Run Filemon, and after several seconds examine the output log to see whether you can  spot polling behavior. Right-click on an output line associated with polling and choose  Process Properties from the context menu to view details of the process performing the  activ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19320" y="457200"/>
            <a:ext cx="4572000" cy="3429000"/>
          </a:xfrm>
          <a:prstGeom prst="rect">
            <a:avLst/>
          </a:prstGeom>
          <a:ln w="0">
            <a:noFill/>
          </a:ln>
        </p:spPr>
      </p:sp>
      <p:sp>
        <p:nvSpPr>
          <p:cNvPr id="118"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n Error’s Root Cause with File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objective:, you’ll set permission on a directory and then perform a file save operation in Notepad that results in a misleading error message. Filemon’s trace shows  the actual error and the source of the message displayed in Notepad’s error dialog box.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Filemon, and set the include filter to “notepad.ex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Explorer, and create a directory named “Test” in a directory on an NTFS volume. (In this example, the root directory was used.)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it the security permissions on the Test directory to remove all access. This might  require you to open the Advanced Security Settings dialog box and use the settings  on the Permissions tab to remove inherited security. When you apply the modified security, Explorer should warn you that no one will  have access to the fold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 and enter some text into its window. Then select the Save entry in  the File menu. In the File Name field of the Save dialog box, enter c:\test\test.txt  (assuming the folder you created is on the volume C:).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pad will display the error message “c:\\test\test.txt - Path does not exist”, implying that C:\\test does no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mon shows that Notepad tried to open C:\Test and got an  access-denied error. Immediately, it tried to open the  C:\Test\Test.txt directory and received a file-not-found error because the directory does not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Notepad displays, “Path does not exist”, is consistent with a file-not-found  error, not an access-denied error. So it appears that Notepad first tried to open the directory, and when that failed it assumed for some reason that the name C:\Test\Test.txt  was the name of a directory instead of a file. When it couldn’t open that directory, Notepad presented the error message, but the root cause, which Filemon reveals, is the  access denied err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19320" y="457200"/>
            <a:ext cx="4572000" cy="3429000"/>
          </a:xfrm>
          <a:prstGeom prst="rect">
            <a:avLst/>
          </a:prstGeom>
          <a:ln w="0">
            <a:noFill/>
          </a:ln>
        </p:spPr>
      </p:sp>
      <p:sp>
        <p:nvSpPr>
          <p:cNvPr id="12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St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Windows applications aren’t designed to work with alternate named streams, but  both the echo and more commands are. Thus, a simple way to view streams in action is to  create a named stream using echo and then display it using more. The following command sequence creates a file named test with a stream named stre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echo hello &gt; test:stream  </a:t>
            </a:r>
            <a:br>
              <a:rPr sz="1200"/>
            </a:br>
            <a:r>
              <a:rPr b="0" lang="en-US" sz="1200" spc="-1" strike="noStrike">
                <a:solidFill>
                  <a:srgbClr val="000000"/>
                </a:solidFill>
                <a:latin typeface="Courier New"/>
              </a:rPr>
              <a:t>C:\&gt;more &lt;  test:stream  </a:t>
            </a:r>
            <a:br>
              <a:rPr sz="1200"/>
            </a:br>
            <a:r>
              <a:rPr b="0" lang="en-US" sz="1200" spc="-1" strike="noStrike">
                <a:solidFill>
                  <a:srgbClr val="000000"/>
                </a:solidFill>
                <a:latin typeface="Courier New"/>
              </a:rPr>
              <a:t>hello   </a:t>
            </a:r>
            <a:br>
              <a:rPr sz="1200"/>
            </a:br>
            <a:r>
              <a:rPr b="0" lang="en-US" sz="1200" spc="-1" strike="noStrike">
                <a:solidFill>
                  <a:srgbClr val="000000"/>
                </a:solidFill>
                <a:latin typeface="Courier New"/>
              </a:rPr>
              <a:t>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erform a directory listing, test’s file size doesn’t reflect the data stored in the  alternate stream because NTFS returns the size of only the unnamed data stream for file  query operations, including directory list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dir test</a:t>
            </a:r>
            <a:br>
              <a:rPr sz="1200"/>
            </a:br>
            <a:r>
              <a:rPr b="0" lang="en-US" sz="1200" spc="-1" strike="noStrike">
                <a:solidFill>
                  <a:srgbClr val="000000"/>
                </a:solidFill>
                <a:latin typeface="Courier New"/>
              </a:rPr>
              <a:t>  Volume in drive C is WINDOWS</a:t>
            </a:r>
            <a:br>
              <a:rPr sz="1200"/>
            </a:br>
            <a:r>
              <a:rPr b="0" lang="en-US" sz="1200" spc="-1" strike="noStrike">
                <a:solidFill>
                  <a:srgbClr val="000000"/>
                </a:solidFill>
                <a:latin typeface="Courier New"/>
              </a:rPr>
              <a:t>  Volume Serial Number is3991-3040</a:t>
            </a:r>
            <a:br>
              <a:rPr sz="1200"/>
            </a:br>
            <a:br>
              <a:rPr sz="1200"/>
            </a:br>
            <a:r>
              <a:rPr b="0" lang="en-US" sz="1200" spc="-1" strike="noStrike">
                <a:solidFill>
                  <a:srgbClr val="000000"/>
                </a:solidFill>
                <a:latin typeface="Courier New"/>
              </a:rPr>
              <a:t>    Directory of C:\    08/01/00 02:37p 0 test  </a:t>
            </a:r>
            <a:br>
              <a:rPr sz="1200"/>
            </a:br>
            <a:r>
              <a:rPr b="0" lang="en-US" sz="1200" spc="-1" strike="noStrike">
                <a:solidFill>
                  <a:srgbClr val="000000"/>
                </a:solidFill>
                <a:latin typeface="Courier New"/>
              </a:rPr>
              <a:t>	</a:t>
            </a:r>
            <a:r>
              <a:rPr b="0" lang="en-US" sz="1200" spc="-1" strike="noStrike">
                <a:solidFill>
                  <a:srgbClr val="000000"/>
                </a:solidFill>
                <a:latin typeface="Courier New"/>
              </a:rPr>
              <a:t>1 File(s) 0 bytes  112,558,080 bytes fre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files and directories on your system have alternate data streams  with the Streams utility from www.sysinternals.com.</a:t>
            </a:r>
            <a:r>
              <a:rPr b="0" lang="en-US" sz="1200" spc="-1" strike="noStrike">
                <a:solidFill>
                  <a:srgbClr val="000000"/>
                </a:solidFill>
                <a:latin typeface="Courier New"/>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Creating a J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oesn’t include any tools for creating junctions, but you can create a junction  with either the Junction tool from www.sysinternals.com (which includes source code) or  the Windows resource kits tool Linkd. The Linkd tool also lets you view the definition  of existing junctions, and Junction lets you view information about junctions and other  reparse point t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Linkd.exe \etc C:\Windows\system32</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osix subsystem installed, ln.exe becomes available that allows for creation of hard link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echo “hello again” &gt; file</a:t>
            </a:r>
            <a:br>
              <a:rPr sz="1200"/>
            </a:br>
            <a:r>
              <a:rPr b="0" lang="en-US" sz="1200" spc="-1" strike="noStrike">
                <a:solidFill>
                  <a:srgbClr val="000000"/>
                </a:solidFill>
                <a:latin typeface="Courier New"/>
              </a:rPr>
              <a:t>C:&gt; ln.exe file file1</a:t>
            </a:r>
            <a:br>
              <a:rPr sz="1200"/>
            </a:br>
            <a:r>
              <a:rPr b="0" lang="en-US" sz="1200" spc="-1" strike="noStrike">
                <a:solidFill>
                  <a:srgbClr val="000000"/>
                </a:solidFill>
                <a:latin typeface="Courier New"/>
              </a:rPr>
              <a:t>C:&gt; more &lt; file1</a:t>
            </a:r>
            <a:br>
              <a:rPr sz="1200"/>
            </a:br>
            <a:r>
              <a:rPr b="0" lang="en-US" sz="1200" spc="-1" strike="noStrike">
                <a:solidFill>
                  <a:srgbClr val="000000"/>
                </a:solidFill>
                <a:latin typeface="Courier New"/>
              </a:rPr>
              <a:t>hello again</a:t>
            </a:r>
            <a:br>
              <a:rPr sz="1200"/>
            </a:br>
            <a:r>
              <a:rPr b="0" lang="en-US" sz="1200" spc="-1" strike="noStrike">
                <a:solidFill>
                  <a:srgbClr val="000000"/>
                </a:solidFill>
                <a:latin typeface="Courier New"/>
              </a:rPr>
              <a:t>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0287D1-BAC5-4854-AD17-A06678B808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112532-1544-4657-AA1E-ABFF3D2B8A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2CC11E-14D9-4CB7-A3CE-468E177A26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79204D-1609-4007-A426-12F1AD6266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C9AEBD-9DE7-4BD4-A7E7-FEEC896F27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D0C490-4ADA-4CEA-9B34-DA285212CE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047DEE-728D-435D-858A-F13C6C6229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034351-DD47-4AE0-A8DE-CD17128495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62C077-D505-4F66-8D6A-351CBD3FD0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FD187D-3345-4370-A009-79DB8B731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4B631B-5089-45D1-96B8-326E4E320A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F9DB26-4CD0-4D7B-8B9E-72D080A40A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0C36-2ABB-4F4B-85A4-572FC62E0FAA}"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MFT</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FS, all data on a volume is stored in files, </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tructures used to locate and retrieve files,</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strap data,</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tmap that records the allocation state  of the entire volume (the NTFS metadata). </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FT is the heart of an NTFS volume</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as an array of  file records. </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ize of each file record is fixed at 1 KB, regardless of cluster size. </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ly,  the MFT contains one record for each file on the volume, including a record for the MFT itself. </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FT can be inspected - it is only a file</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i.exe utility from OEM Support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7C016F-389A-432B-8AA0-F659E73932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 NTFS Information</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t first accesses a volume, NTFS must mount i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 metadata from the dis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 internal data structures so that it can process application file system accesses.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ount the volume, NTFS looks in the boot sector to find the physical disk address of the  MF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FT’s own file record is the first entry in the tabl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file record points to  a file located in the middle of the disk called the MFT mirror (filename $MftMirr) that contains a copy of the first few rows of the MFT. </a:t>
            </a:r>
            <a:endParaRPr b="0" lang="en-US" sz="2000" spc="-1" strike="noStrike">
              <a:solidFill>
                <a:srgbClr val="ffffff"/>
              </a:solidFill>
              <a:latin typeface="Arial"/>
            </a:endParaRPr>
          </a:p>
          <a:p>
            <a:pPr marL="357120" indent="-357120">
              <a:lnSpc>
                <a:spcPct val="90000"/>
              </a:lnSpc>
              <a:spcBef>
                <a:spcPts val="700"/>
              </a:spcBef>
              <a:spcAft>
                <a:spcPts val="700"/>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Info.exe and Fsutil.exe tools reveal crucial information about MFT placement</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095A4D-7350-417A-B919-8419DF15DC51}"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0305C68-2B4B-495C-B26D-49E65554FB6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6.</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objective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registered file system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restore filter drive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le system I/O activity with Filem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 on NTFS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and symbolic links (Junctions) on NTF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the Master File Table (MF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nform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AF3E41-5F86-463D-B838-1248EFC6F0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 of Registered File Systems Lab</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O manager loads driver, it typically names driver object according to file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driver objects of type file system driver represent local/remote file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Npfs (Named Pipe File System) is a network API drive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Obj and the System Information viewer reveal list of registered file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MC snap-in on W2K, Msinfo32 on Server 2003)</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4A672D2-235B-488F-AF0D-C5E64884EA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Lab</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tore provides a way to restore a Windows XP system to a previously known poin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vailable on Windows 2000 or Server 2003</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P-compatible Setup may create a “restore point” before installation begi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e works on per-volume basi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tore filter driver attaches filter device objects to FAT and NTFS objects (volum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form SDK provides SRSetRestorePoint and SRRemoveRestorePoint APIs for installation program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investigates restore filter driver objects using kernel debugg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EB3082-07BA-4976-A47F-D4C4601D60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Idle System Lab</a:t>
            </a:r>
            <a:endParaRPr b="0" lang="en-US" sz="4000" spc="-1" strike="noStrike">
              <a:solidFill>
                <a:srgbClr val="fe9900"/>
              </a:solidFill>
              <a:latin typeface="Arial"/>
            </a:endParaRPr>
          </a:p>
        </p:txBody>
      </p:sp>
      <p:sp>
        <p:nvSpPr>
          <p:cNvPr id="97" name="PlaceHolder 2"/>
          <p:cNvSpPr>
            <a:spLocks noGrp="1"/>
          </p:cNvSpPr>
          <p:nvPr>
            <p:ph/>
          </p:nvPr>
        </p:nvSpPr>
        <p:spPr>
          <a:xfrm>
            <a:off x="456840" y="1625400"/>
            <a:ext cx="8381880" cy="4601880"/>
          </a:xfrm>
          <a:prstGeom prst="rect">
            <a:avLst/>
          </a:prstGeom>
          <a:noFill/>
          <a:ln w="0">
            <a:noFill/>
          </a:ln>
        </p:spPr>
        <p:txBody>
          <a:bodyPr lIns="90000" rIns="90000" tIns="46800" bIns="46800" anchor="t">
            <a:normAutofit fontScale="93000"/>
          </a:bodyPr>
          <a:p>
            <a:pPr marL="331920" indent="-3319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mon shows all file activity as it occurs</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 tool for troubleshooting file system–related system and application failur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mon requires Load Driver and Debug privileges </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mode vs. advanced mode</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operations (IRPs) are tagged with friendly nam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NTFS metadata, paging I/O, System and filemon process activity, fast I/O failures are reported only in advanced mode</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uses filemon to examine file system activity on idle syste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7B07B4-59F7-4258-8561-901F32748B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App Error Lab</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ometimes present error messages in response to an error condition that do not reveal the root cause of the error.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error messages can be frustrating because they might lead you to spend time diagnosing or resolving problems that do not exist.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error message is related to a file system issue, Filemon will show what underlying errors might have occurred prior to the appearance of an error message.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068B8EF-28C4-447A-B5C8-E566773492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Streams Lab</a:t>
            </a: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NTFS has a default, unnamed data strea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create additional strea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ream has different allocation size, actual size, and valid data length</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xplorer uses streams to store summary information for files (right-click -&gt; propertie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for Macintosh stores resource fork in a separate stream</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s are named &lt;file&gt;”:”&lt;stream&g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41F3E2-92FF-47A3-8E5F-7EC640A93A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links and Junctions - Lab</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2000"/>
          </a:bodyPr>
          <a:p>
            <a:pPr marL="328320" indent="-3283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rd link allows multiple paths to refer to the same file</a:t>
            </a:r>
            <a:endParaRPr b="0" lang="en-US" sz="2800" spc="-1" strike="noStrike">
              <a:solidFill>
                <a:srgbClr val="ffffff"/>
              </a:solidFill>
              <a:latin typeface="Arial"/>
            </a:endParaRPr>
          </a:p>
          <a:p>
            <a:pPr lvl="1" marL="908280" indent="-3330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via CreateHardLink() or ln() functions</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n file file1</a:t>
            </a:r>
            <a:r>
              <a:rPr b="0" lang="en-US" sz="2400" spc="-1" strike="noStrike">
                <a:solidFill>
                  <a:srgbClr val="ffffff"/>
                </a:solidFill>
                <a:latin typeface="Arial"/>
              </a:rPr>
              <a:t>  creates a new name for file</a:t>
            </a:r>
            <a:endParaRPr b="0" lang="en-US" sz="2400" spc="-1" strike="noStrike">
              <a:solidFill>
                <a:srgbClr val="ffffff"/>
              </a:solidFill>
              <a:latin typeface="Arial"/>
            </a:endParaRPr>
          </a:p>
          <a:p>
            <a:pPr marL="328320" indent="-3283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also supports Junctions (symbolic links)</a:t>
            </a:r>
            <a:endParaRPr b="0" lang="en-US" sz="2800" spc="-1" strike="noStrike">
              <a:solidFill>
                <a:srgbClr val="ffffff"/>
              </a:solidFill>
              <a:latin typeface="Arial"/>
            </a:endParaRPr>
          </a:p>
          <a:p>
            <a:pPr lvl="1" marL="908280" indent="-3330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irect file/pathname translation to another dir</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NTFS reparse points</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PI functions to create reparse points (must use DeviceIoControl() or Linkd.exe / Junction.exe)</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inkd \etc C:\Windows\system32</a:t>
            </a:r>
            <a:r>
              <a:rPr b="0" lang="en-US" sz="2400" spc="-1" strike="noStrike">
                <a:solidFill>
                  <a:srgbClr val="ffffff"/>
                </a:solidFill>
                <a:latin typeface="Arial"/>
              </a:rPr>
              <a:t> creates a new name for the Windows system32 directo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0BD9BC2-ACEE-42A8-AF7A-5335D044DB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7-04T21:13:28Z</cp:lastPrinted>
  <dcterms:modified xsi:type="dcterms:W3CDTF">2006-01-09T19:54:47Z</dcterms:modified>
  <cp:revision>60</cp:revision>
  <dc:subject>Windows Operating Systems Internals Course</dc:subject>
  <dc:title>Unit OS8: Lab Description &amp; Lab Manual</dc:title>
</cp:coreProperties>
</file>